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DA3-4469-4359-ABC5-09CD6DFD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D64-0403-4371-86D2-C03F89C2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0C7-426D-4B56-A9A2-A28E3FC4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7A8-6A27-4F15-8893-5C28745B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634-B2BD-4581-8856-80F58CA1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587-03F5-445E-86C4-F313F5A1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423-5308-4B03-AA8A-4479AF10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ACCB-7EA5-42B2-92E5-051F447D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177-56B4-40B2-BD41-14A2026D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978-DD99-4D34-8E76-461D0183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F13-4FE7-42F3-8B27-7FFE10E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C6D-820E-4BE3-9BB7-4F7870C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CB5C-F4AC-440D-9166-94A344B73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Arial"/>
              </a:rPr>
              <a:t>Jake keeps sheep in the village.</a:t>
            </a:r>
            <a:r>
              <a:rPr b="0" lang="en-US" sz="9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A pretty creek runs behind the village park.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e weak heel on my black shoe broke off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Watch the little seals leap into the water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Miss Beech will teach us about rain and sleet in science class today.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My buddy lives in a village near the rocky beach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Arial"/>
              </a:rPr>
              <a:t>A lady left a pretty green shoe in a locker at the gym.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000000"/>
                </a:solidFill>
                <a:latin typeface="Arial"/>
              </a:rPr>
              <a:t>She was eager to find out who won the track meet at her school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an you guess who will give the best speech this week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I even like to watch the wheat sway in the breeze down on the far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He planted seeds in science class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Ann cleaned her muddy shoe.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Can you guess which team won the jeep?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It’s fun to watch the baby eagles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There are pretty trees on my street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Arial"/>
              </a:rPr>
              <a:t>We will read about streams in our science books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I guess he had a good reason to sleep so late.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andy won a blue ribbon for her peach pie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3:15:55Z</dcterms:created>
  <dc:creator> </dc:creator>
  <dc:description/>
  <dc:language>en-US</dc:language>
  <cp:lastModifiedBy>teacher</cp:lastModifiedBy>
  <dcterms:modified xsi:type="dcterms:W3CDTF">2010-11-01T00:31:37Z</dcterms:modified>
  <cp:revision>31</cp:revision>
  <dc:subject/>
  <dc:title>He is always happy.</dc:title>
</cp:coreProperties>
</file>